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166-6216-4720-A18A-171BDC46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684-65CB-4B1E-9FAA-FD756871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4EA-3270-4B6E-A82A-C5A9CEC8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CF4-EA1B-4ECF-9819-AD3B6AB5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683-DD2A-4944-B63F-5E40CB74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3B7-6D38-41E2-B25E-2EBD3FBA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477-E73C-4DDD-994B-867E6143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4DA-6C86-40A4-8B7C-8B17DD06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54E-592C-4015-B0AC-C2264476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AF1-0A08-47F3-82E3-ED02909E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EED-C044-48E2-9FED-B280BC1E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479-BA2D-45C0-BC37-623EC44C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6E0B-401F-489E-813A-72AD8C245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5181480" y="525780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i Andre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Salle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80880" y="762120"/>
            <a:ext cx="7772400" cy="52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raphing Mo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d-t graph tell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926160" cy="3962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410080" y="32004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as each second passe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410080" y="39625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bject has no additional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0080" y="4724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object must not be mov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d-t graph tell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3657600" cy="362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876920" y="152388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s time passes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952880" y="228600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876920" y="19051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and more displacement occurs, but at a very regular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952880" y="289548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e object must be moving at constant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0"/>
          <p:cNvSpPr/>
          <p:nvPr/>
        </p:nvSpPr>
        <p:spPr>
          <a:xfrm flipH="1">
            <a:off x="5027760" y="4192560"/>
            <a:ext cx="28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3"/>
          <p:cNvSpPr/>
          <p:nvPr/>
        </p:nvSpPr>
        <p:spPr>
          <a:xfrm>
            <a:off x="5029200" y="6095880"/>
            <a:ext cx="26668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6"/>
          <p:cNvSpPr/>
          <p:nvPr/>
        </p:nvSpPr>
        <p:spPr>
          <a:xfrm>
            <a:off x="5105520" y="4343400"/>
            <a:ext cx="220968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5642640" y="632448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(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 rot="16200000">
            <a:off x="3637800" y="5061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cement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ular Callout 21"/>
          <p:cNvSpPr/>
          <p:nvPr/>
        </p:nvSpPr>
        <p:spPr>
          <a:xfrm>
            <a:off x="1295280" y="5334120"/>
            <a:ext cx="2590920" cy="1295280"/>
          </a:xfrm>
          <a:prstGeom prst="wedgeRoundRectCallout">
            <a:avLst>
              <a:gd name="adj1" fmla="val 72916"/>
              <a:gd name="adj2" fmla="val -30148"/>
              <a:gd name="adj3" fmla="val 16667"/>
            </a:avLst>
          </a:prstGeom>
          <a:solidFill>
            <a:srgbClr val="66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does this graph tell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d-t graph tell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981600" cy="39290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5105520" y="1447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as time pass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105520" y="205740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ount of displacement covered each second increases compared with the prio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181480" y="4114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s typical of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celera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LOPE indicates the VELOCITY on a d-t grap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slope – no velocit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ve slope – positive velo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gative slope – negative velo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ep/Large slope – fast velo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/small slope – slow velo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5" descr="motion graph1.jpg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44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w, Let’s move on to Velocity-Time Graph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es this graph tell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60864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554040" y="3657600"/>
            <a:ext cx="375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bject is moving a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tant velo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Cruise Control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lue Highway Linocut"/>
              </a:rPr>
              <a:t>What does this v-t graph tell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143600" cy="4257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110520" y="2666880"/>
            <a:ext cx="44355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The velocity i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at a constant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CONST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ACCELERATION</a:t>
            </a:r>
            <a:r>
              <a:rPr b="1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ue Highway Linocut"/>
              </a:rPr>
              <a:t>And what might this v-t graph tell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552840" cy="361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228600" y="228600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locity i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ime therefor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1520" y="3809880"/>
            <a:ext cx="473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anging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The meaning of slop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on a v-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The slope indicates the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acceleration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of the objec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+ slope = + 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- slope = - 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each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ontent Placeholder 5" descr="disp time graphs.jpg"/>
          <p:cNvPicPr/>
          <p:nvPr/>
        </p:nvPicPr>
        <p:blipFill>
          <a:blip r:embed="rId1"/>
          <a:stretch/>
        </p:blipFill>
        <p:spPr>
          <a:xfrm>
            <a:off x="1295280" y="1457280"/>
            <a:ext cx="683604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Arial"/>
              </a:rPr>
              <a:t>What do you already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th classes, you have learned how to make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lso learned that the SLOPE of the line on a graph can be found by tak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/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is is also called the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is is also called the “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SLOPE is also Rise/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Content Placeholder 3" descr="pos neg vel graph.jpg"/>
          <p:cNvPicPr/>
          <p:nvPr/>
        </p:nvPicPr>
        <p:blipFill>
          <a:blip r:embed="rId1"/>
          <a:stretch/>
        </p:blipFill>
        <p:spPr>
          <a:xfrm>
            <a:off x="1295280" y="1082520"/>
            <a:ext cx="6446880" cy="5470560"/>
          </a:xfrm>
          <a:prstGeom prst="rect">
            <a:avLst/>
          </a:prstGeom>
          <a:ln w="0">
            <a:noFill/>
          </a:ln>
        </p:spPr>
      </p:pic>
      <p:sp>
        <p:nvSpPr>
          <p:cNvPr id="106" name="Oval Callout 4"/>
          <p:cNvSpPr/>
          <p:nvPr/>
        </p:nvSpPr>
        <p:spPr>
          <a:xfrm>
            <a:off x="3657600" y="2057400"/>
            <a:ext cx="3124080" cy="1295280"/>
          </a:xfrm>
          <a:prstGeom prst="wedgeEllipseCallout">
            <a:avLst>
              <a:gd name="adj1" fmla="val -72509"/>
              <a:gd name="adj2" fmla="val -70958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 moving at constant velocity right ward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ular Callout 5"/>
          <p:cNvSpPr/>
          <p:nvPr/>
        </p:nvSpPr>
        <p:spPr>
          <a:xfrm>
            <a:off x="5791320" y="3886200"/>
            <a:ext cx="2819160" cy="1219320"/>
          </a:xfrm>
          <a:prstGeom prst="wedgeRoundRectCallout">
            <a:avLst>
              <a:gd name="adj1" fmla="val -64453"/>
              <a:gd name="adj2" fmla="val 75726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 is also moving at a constant velocity but leftward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Content Placeholder 3" descr="v-t graph5.jpg"/>
          <p:cNvPicPr/>
          <p:nvPr/>
        </p:nvPicPr>
        <p:blipFill>
          <a:blip r:embed="rId1"/>
          <a:stretch/>
        </p:blipFill>
        <p:spPr>
          <a:xfrm>
            <a:off x="1371600" y="66204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pee"/>
              </a:rPr>
              <a:t>Let’s discuss this on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3" descr="v-t graph4.jpg"/>
          <p:cNvPicPr/>
          <p:nvPr/>
        </p:nvPicPr>
        <p:blipFill>
          <a:blip r:embed="rId1"/>
          <a:stretch/>
        </p:blipFill>
        <p:spPr>
          <a:xfrm>
            <a:off x="1523880" y="1600200"/>
            <a:ext cx="7345440" cy="484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Explosion 1 4"/>
          <p:cNvSpPr/>
          <p:nvPr/>
        </p:nvSpPr>
        <p:spPr>
          <a:xfrm>
            <a:off x="-228600" y="762120"/>
            <a:ext cx="2971800" cy="3352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slope indicates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Motion Graphs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ope = Rise /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 is in m and t is in 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v is in m/s and t is in s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is in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 is in 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5800" y="17524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343240" cy="48387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429000" y="21337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slope is m / s which is 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352680" y="38098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slope is m / s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s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429000" y="55627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slope is m /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s meaning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5238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238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523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Area under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graph has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Content Placeholder 3" descr="area under graph1.jpg"/>
          <p:cNvPicPr/>
          <p:nvPr/>
        </p:nvPicPr>
        <p:blipFill>
          <a:blip r:embed="rId1"/>
          <a:stretch/>
        </p:blipFill>
        <p:spPr>
          <a:xfrm>
            <a:off x="674640" y="1295280"/>
            <a:ext cx="72500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Motion Graphs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a = Base x Height (or ½ b*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 is in m and t is in 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v is in m/s and t is in s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is in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 is in 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85800" y="17524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343240" cy="483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2248200" cy="4819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657600" y="2133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area under is m*s which i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meaning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657600" y="3809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area under is m/s * s which is m which indicates </a:t>
            </a:r>
            <a:r>
              <a:rPr b="1" i="1" lang="en-US" sz="1800" spc="-1" strike="noStrike">
                <a:solidFill>
                  <a:srgbClr val="990099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733920" y="5638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area under is m/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s which is m/s which indicates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82880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18288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182880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62520" y="13716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d-t grap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orizontal lin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agonal lin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urving lin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v-t grap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orizontal lin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agonal lin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urving lin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444840" cy="48006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191120" y="1981080"/>
            <a:ext cx="472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hat there is no change in position over time; the object is not mo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191120" y="2819520"/>
            <a:ext cx="449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hat as time passes, equal distances are covered in equal time, so there is constant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191120" y="350532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hat as time passes, greater and greater distances are covered for every second of travel (acceler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191120" y="4572000"/>
            <a:ext cx="472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hat there is no change in velocity over time; the object is moving at a constant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4191120" y="5334120"/>
            <a:ext cx="449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hat as time passes, velocity increases at a regular rate (acceler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191120" y="60958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hat as time passes, the velocity increases at a greater and greater rate (incr. acc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lationship of Units to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units do you know that consist of a numerator unit and a denominator un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xample is for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is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mass /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graphed mass on the Y axis and volume on the X axis, the slope would show you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ICTUR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t’s say you cut up a wooden dowel into 5 pieces, each piece having a different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t’s say you measured the mass of each piece and the volume of each piece and plotted them against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t’s take that dat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ata Table for Wood 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ce number       Mass        Volum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                       8.0 g               16 c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10.0 g              20 c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                        12.0 g              24 c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                        14.0 g              28 c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                         16.0 g              32 cm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et’s Graph Tha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98"/>
          <p:cNvGraphicFramePr/>
          <p:nvPr/>
        </p:nvGraphicFramePr>
        <p:xfrm>
          <a:off x="836640" y="3938760"/>
          <a:ext cx="3278160" cy="21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3938760"/>
                    <a:ext cx="32781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100"/>
          <p:cNvGraphicFramePr/>
          <p:nvPr/>
        </p:nvGraphicFramePr>
        <p:xfrm>
          <a:off x="5029200" y="3936960"/>
          <a:ext cx="3308400" cy="220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936960"/>
                    <a:ext cx="3308400" cy="22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102"/>
          <p:cNvGraphicFramePr/>
          <p:nvPr/>
        </p:nvGraphicFramePr>
        <p:xfrm>
          <a:off x="0" y="1219320"/>
          <a:ext cx="8991720" cy="5327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" name="Object 10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219320"/>
                    <a:ext cx="8991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re other units like t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speed (let’s call it velocity starting 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ocity has to have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magnitude and 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v = d/t)  since it is a vector quantity and all vectors have to have magnitude and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Acceleration (a = v/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Three Categories of Motion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graph motion to help us better understand what the moving object is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is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is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is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we can have Displacement-Time graphs, Velocity-Time graphs, and Acceleration-Time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cement-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types of displacement –time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ells us something different about the motion of an object, and the “curve” of the line on the graph communicates that info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57:23Z</dcterms:created>
  <dc:creator>marti andreski</dc:creator>
  <dc:description/>
  <dc:language>en-US</dc:language>
  <cp:lastModifiedBy>jluckey</cp:lastModifiedBy>
  <dcterms:modified xsi:type="dcterms:W3CDTF">2011-09-26T14:58:56Z</dcterms:modified>
  <cp:revision>88</cp:revision>
  <dc:subject/>
  <dc:title>Significant Figures</dc:title>
</cp:coreProperties>
</file>